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97F-B307-4F74-B07C-849679A2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578-F57E-435B-8421-1ADFFCDA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527-A45B-4635-8745-F13A33F4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788-0B7D-49DA-8B3E-EFD84A3F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F09-0475-457C-8BDB-67259FB2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A3D-7300-4A7E-AFAC-6849449C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2A0-9CD6-4672-90FC-2A99E1F0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AB5-DE33-4BD8-B597-787FDA33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CBD-3544-40B9-A3CD-0D5E5A43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BDA-72F9-49D1-AD7E-1203C0BF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98D-D249-493A-ADD6-21E0BA6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8ED-F8B6-4F3C-8FA7-BFDBFD05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90B7-D925-4F8F-AFA8-43FCA22A3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eb.mit.edu/invent/iow/wakefield.html" TargetMode="External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609480"/>
            <a:ext cx="67057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Chocola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Ch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Cooki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4876920"/>
            <a:ext cx="2590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lair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December 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Pe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omputer#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Free Play Music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rlin Sans FB"/>
              </a:rPr>
              <a:t> Purple punch, </a:t>
            </a: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December 8,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934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8600" y="198108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543800" y="304920"/>
            <a:ext cx="1219320" cy="1131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Invented By: Ruth  Wake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5880" y="25909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Wakefield"/>
          <p:cNvPicPr/>
          <p:nvPr/>
        </p:nvPicPr>
        <p:blipFill>
          <a:blip r:embed="rId1"/>
          <a:stretch/>
        </p:blipFill>
        <p:spPr>
          <a:xfrm>
            <a:off x="5486400" y="152280"/>
            <a:ext cx="3362400" cy="4496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4648320"/>
            <a:ext cx="3352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 12/1/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3856320" cy="281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3429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3520" y="3780000"/>
            <a:ext cx="4724280" cy="27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6553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64771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hocolate Chip Cook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okies had semi sweet chocolate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okies Ruth made became very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tle got a better idea in 1939,to offer  Nestle Toll House  real semi sweet chocolate mors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Wake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h graduated from Framingham state Normal 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ked as a dietitian and food le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and her husband purchased a cape cod style home, halfway between Boston and New Bed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Ruth favorite cookies was butter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and her husband made their house into Toll House 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got her cookie recipe published in Bo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had a cook book called “Ruth Wakefield’s recipes: Tied and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9Z</dcterms:created>
  <dc:creator>install</dc:creator>
  <dc:description/>
  <dc:language>en-US</dc:language>
  <cp:lastModifiedBy>install</cp:lastModifiedBy>
  <dcterms:modified xsi:type="dcterms:W3CDTF">2011-12-16T15:30:15Z</dcterms:modified>
  <cp:revision>9</cp:revision>
  <dc:subject/>
  <dc:title>Slide 1</dc:title>
</cp:coreProperties>
</file>